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D7C4-AF91-4C41-A94C-3D1906351A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u geen link tussen Digi-K en deze database. In de toekomst hopelijk w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E7A-4FD5-4503-BE7F-077DA2F8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B79-2C32-43C8-BBD1-DC0D264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C78-75E6-47B9-B999-E8E7283E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860-1AA1-4287-8EF9-71FFD5FD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C12-640D-410C-AF76-440DBED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A5B-F4FD-450D-B608-9B0CE86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A80-86D6-4CB3-8C6C-F95074B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696-1A57-45AF-A6DC-FFF26A39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3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110-2541-45A7-991A-CAAAD8C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44D-8585-48DC-866B-BA3D677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F0E-739B-43A2-A87D-496D82B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4C8-651D-4449-B402-EABA4E9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D143-BF0A-46AD-8497-C25B7748D5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nlnrp.nl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coloplatform.nl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Database Europass Certificate Supplement</a:t>
            </a:r>
            <a:br>
              <a:rPr sz="2800"/>
            </a:br>
            <a:r>
              <a:rPr b="1" lang="en-US" sz="2400" spc="-1" strike="noStrike">
                <a:solidFill>
                  <a:srgbClr val="00bee1"/>
                </a:solidFill>
                <a:latin typeface="Arial"/>
              </a:rPr>
              <a:t>the Netherlands</a:t>
            </a:r>
            <a:endParaRPr b="1" lang="en-US" sz="24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Indira von Oven – Colo (Dutch NEC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8-5-2011, Malaga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Email: i.vonoven@colo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Improvements of the database</a:t>
            </a:r>
            <a:r>
              <a:rPr b="1" lang="nl-NL" sz="2800" spc="-1" strike="noStrike">
                <a:solidFill>
                  <a:srgbClr val="00bee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administrative part of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website of the NR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aking it possible to change all the CS at once (example change in address, adding the EQF / NLQF level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Linking all databases together </a:t>
            </a:r>
            <a:r>
              <a:rPr b="0" lang="en-US" sz="2400" spc="-1" strike="noStrike">
                <a:solidFill>
                  <a:srgbClr val="00499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 generating CS directly within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ertificate Supplement: statistics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Europass Certificate Supplement is available free of charg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utomatically generated from the qualification websit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ertificate Supplements are available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all new level 3 + 4 qualifications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s 2008: 125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old qualifications: 200  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vailable in Dutch and English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Why a new database?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Word and Excel not sufficient for so many C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Difficult to search through all the CS available online and available within Word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No connection between Word and the onlin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ly possible to search in alphabetical order, no other search option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12280" r="39983" b="31103"/>
          <a:stretch/>
        </p:blipFill>
        <p:spPr>
          <a:xfrm>
            <a:off x="-1440" y="0"/>
            <a:ext cx="9145440" cy="630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eer informatie?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loplatform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0" t="12277" r="0" b="0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So let’s have a look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 the internet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Key word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Via extended search option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Name qualification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number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level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Branch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2939" r="0" b="456"/>
          <a:stretch/>
        </p:blipFill>
        <p:spPr>
          <a:xfrm>
            <a:off x="0" y="404640"/>
            <a:ext cx="9144000" cy="583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12503" r="8025" b="2310"/>
          <a:stretch/>
        </p:blipFill>
        <p:spPr>
          <a:xfrm>
            <a:off x="324000" y="333360"/>
            <a:ext cx="8642160" cy="597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12800" t="12939" r="14161" b="20131"/>
          <a:stretch/>
        </p:blipFill>
        <p:spPr>
          <a:xfrm>
            <a:off x="468360" y="404640"/>
            <a:ext cx="8351640" cy="5500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742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30:49Z</dcterms:created>
  <dc:creator>mavb</dc:creator>
  <dc:description/>
  <dc:language>en-US</dc:language>
  <cp:lastModifiedBy>sadia.khokhar</cp:lastModifiedBy>
  <dcterms:modified xsi:type="dcterms:W3CDTF">2011-05-17T11:00:50Z</dcterms:modified>
  <cp:revision>12</cp:revision>
  <dc:subject/>
  <dc:title>Certificaatsupplement op internet Coloplatform</dc:title>
</cp:coreProperties>
</file>